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FFF6-764A-45FB-A4DB-9834D1257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B61-DDEE-41AA-B093-3495571B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5F7-1FDC-4093-BBC6-50CF457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EF0-719E-4A10-A1E2-5364D27A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CE1-1FC7-4279-A8A1-8A235428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0465-B0AE-4FEA-BD5D-C9F6AC95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745F-8063-46C4-9BFA-9CF8018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5C4-F366-4AB6-BC34-4E774C5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FC2D-D9B4-4152-9390-528B4D2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C0C4-E669-42A0-AA14-5A02962E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5828-075C-4C4D-94D2-4DEFBA0B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EB47-FA49-463C-B1E0-AB3A67C2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207-E0AC-46A9-9ED2-3016B11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53CB-D4F8-4667-A8E5-15D99BA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796-7309-4A06-8AED-BEA49AA6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4C5E-0F3F-40EC-9F59-6E7F7447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D6CE-E90C-4640-8990-554C5226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464-F492-4B5A-A37A-B31522A9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FD0-C41B-42E6-8F2A-E0FCE352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CE6-8893-4414-813D-5E2E825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5F5-3024-4BF0-A972-7E667F3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03D-E9B8-4442-A78C-609DEC6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F3A-DB09-43AD-8792-A46F24E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A7A-038E-4F88-8DC1-67417DC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FCB-6026-49A5-963C-B47D2C85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BF95-1E59-47AC-98A0-B03BFE2447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8E1B-59BE-4AF7-928F-EF74DB31F9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6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6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6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0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0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RomaK</cp:lastModifiedBy>
  <dcterms:modified xsi:type="dcterms:W3CDTF">2015-09-04T07:36:20Z</dcterms:modified>
  <cp:revision>169</cp:revision>
  <dc:subject/>
  <dc:title>Inequalities and their Graphs</dc:title>
</cp:coreProperties>
</file>